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B63B6-8257-40A7-8304-9584FE93B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614CE-21D1-403E-8CDA-7FC64356D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F36EC-E1E9-4BA4-AC6E-04D1E3516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E29A1-E26C-4A37-A037-CCC82C8BA7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DBD94-8099-4A76-8560-18BCFCEBF1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33074-220E-4E83-8CC7-803509A5D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9FFB1-24E6-47C6-AC61-4F08CC257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FF357-C1AD-44EA-ABA6-70C579700E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69D84-28B2-475C-AFAD-9583C635E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92B65-3111-4D45-8B35-BDE66B3AF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8F129-A81E-468E-878C-586C87DDC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9995E-6AD4-4805-AEAF-34AFFB5AE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C39F95-32B0-4B3C-957F-8DD6E49EA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3C593-F11B-4909-80BB-133ED740B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108EE-DE04-42CA-88F8-28E2C9E94C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8F73C-C2B4-486B-ABC8-4A0169C36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7463A-8CA1-4A26-8B03-B40D66C71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DCC102-5A58-4BFE-BF8D-0D88F10ED9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98797D-0E48-445C-8CEB-8D4FC8616D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A22CAA-6F5E-45B2-9148-FA88195B07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371194-79AB-44C6-B294-812B8215CC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332EBC-DAFC-4473-B253-58CD0E8AF8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B6871-A673-4C5D-83FD-3AA506BDE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7A86AD-4191-4D5D-B076-9F91B741FF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B7C149-CD57-47DC-AC54-FE0C553BAC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6E245B-C407-41C0-BB66-818B62D0FB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E9127-442D-49CD-ABE2-940B4E593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D1E736-CAA7-4C22-859A-3D77D864F9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5CCEC4-B453-4DF3-9E05-C29D6D36D0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C2A998-5BD9-416B-995E-BF8C234C1A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974291-4E73-4782-8AC6-2EAE00DC95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6CB357-F157-488D-9E81-ADA7C96B5B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71EBD2-5616-4C5F-A8A5-D07393D2E0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BC6F7-071E-4C14-A928-49D6323A1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D7D93-42CE-4439-A788-65FEBCB10D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89C14A-CFC3-4DCE-A18E-465184FED3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E0A674-0EDE-4DA7-BE0C-2C00FB819C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E303B-BF49-4D7D-8679-64D0F325D7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2D1E31-9C00-43A7-8268-6118ADC324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93D7F4-AD76-4826-A88A-6FEF425D00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29452C-45AA-441D-BD15-87E4A37040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7C80A4-6EF1-416B-B542-211179FE3D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877110-C64B-4746-8BBB-35AF5A7A27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F7B34-2AB8-470D-B73B-86135E773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CDA4A-8F28-48B1-B0FF-B709EB917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99A56-0D2B-4461-A04C-234C95114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4D140-BB4C-42AB-804E-4C992D3A1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81644-71F4-4000-888A-BF1EEA321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1649-5498-487A-986C-EDC14B407C2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800" spc="-1" strike="noStrike">
                  <a:solidFill>
                    <a:srgbClr val="000000"/>
                  </a:solidFill>
                  <a:latin typeface="Arial"/>
                </a:endParaRPr>
              </a:p>
            </p:txBody>
          </p:sp>
        </p:grpSp>
      </p:grpSp>
      <p:pic>
        <p:nvPicPr>
          <p:cNvPr id="14" name="Picture 8" descr="LOGO"/>
          <p:cNvPicPr/>
          <p:nvPr/>
        </p:nvPicPr>
        <p:blipFill>
          <a:blip r:embed="rId5"/>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5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800" spc="-1" strike="noStrike">
                  <a:solidFill>
                    <a:srgbClr val="000000"/>
                  </a:solidFill>
                  <a:latin typeface="Arial"/>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800" spc="-1" strike="noStrike">
                  <a:solidFill>
                    <a:srgbClr val="000000"/>
                  </a:solidFill>
                  <a:latin typeface="Arial"/>
                </a:endParaRPr>
              </a:p>
            </p:txBody>
          </p:sp>
        </p:grpSp>
      </p:grpSp>
      <p:pic>
        <p:nvPicPr>
          <p:cNvPr id="60" name="Picture 8" descr="LOGO"/>
          <p:cNvPicPr/>
          <p:nvPr/>
        </p:nvPicPr>
        <p:blipFill>
          <a:blip r:embed="rId5"/>
          <a:stretch/>
        </p:blipFill>
        <p:spPr>
          <a:xfrm>
            <a:off x="2000160" y="0"/>
            <a:ext cx="4857840" cy="116352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6A87C-37DC-4999-BB7E-EB9B2F3AAFA0}"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0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800" spc="-1" strike="noStrike">
                  <a:solidFill>
                    <a:srgbClr val="000000"/>
                  </a:solidFill>
                  <a:latin typeface="Arial"/>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800" spc="-1" strike="noStrike">
                  <a:solidFill>
                    <a:srgbClr val="000000"/>
                  </a:solidFill>
                  <a:latin typeface="Arial"/>
                </a:endParaRPr>
              </a:p>
            </p:txBody>
          </p:sp>
        </p:grpSp>
      </p:grpSp>
      <p:pic>
        <p:nvPicPr>
          <p:cNvPr id="111" name="Picture 8" descr="LOGO"/>
          <p:cNvPicPr/>
          <p:nvPr/>
        </p:nvPicPr>
        <p:blipFill>
          <a:blip r:embed="rId5"/>
          <a:stretch/>
        </p:blipFill>
        <p:spPr>
          <a:xfrm>
            <a:off x="2000160" y="0"/>
            <a:ext cx="4857840" cy="116352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Arial"/>
              </a:rPr>
              <a:t>&lt;date/time&gt;</a:t>
            </a:r>
            <a:endParaRPr b="0" lang="en-US" sz="1200" spc="-1" strike="noStrike">
              <a:solidFill>
                <a:srgbClr val="000000"/>
              </a:solidFill>
              <a:latin typeface="Arial"/>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34E92-CBA9-447C-8B05-1AE515052DE0}"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6"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lt;date/time&gt;</a:t>
            </a:r>
            <a:endParaRPr b="0" lang="en-US" sz="1200" spc="-1" strike="noStrike">
              <a:solidFill>
                <a:srgbClr val="000000"/>
              </a:solidFill>
              <a:latin typeface="Arial"/>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90B2A-A8FA-4E2A-9BA9-492A158035A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0" y="1061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Интегрисане академске студије стоматологије</a:t>
            </a:r>
            <a:endParaRPr b="0" lang="en-US" sz="2800" spc="-1" strike="noStrike">
              <a:solidFill>
                <a:srgbClr val="04617b"/>
              </a:solidFill>
              <a:latin typeface="Calibri"/>
            </a:endParaRPr>
          </a:p>
        </p:txBody>
      </p:sp>
      <p:sp>
        <p:nvSpPr>
          <p:cNvPr id="199" name="PlaceHolder 2"/>
          <p:cNvSpPr>
            <a:spLocks noGrp="1"/>
          </p:cNvSpPr>
          <p:nvPr>
            <p:ph/>
          </p:nvPr>
        </p:nvSpPr>
        <p:spPr>
          <a:xfrm>
            <a:off x="0" y="2287080"/>
            <a:ext cx="8229600" cy="4526280"/>
          </a:xfrm>
          <a:prstGeom prst="rect">
            <a:avLst/>
          </a:prstGeom>
          <a:noFill/>
          <a:ln w="0">
            <a:noFill/>
          </a:ln>
        </p:spPr>
        <p:txBody>
          <a:bodyPr anchor="t">
            <a:normAutofit/>
          </a:bodyPr>
          <a:p>
            <a:pPr marL="2728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onstantia"/>
              </a:rPr>
              <a:t>Предмет: Енглески језик</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000000"/>
                </a:solidFill>
                <a:latin typeface="Constantia"/>
              </a:rPr>
              <a:t>Предавач: Душица Лазић</a:t>
            </a:r>
            <a:endParaRPr b="0" lang="en-US" sz="2600" spc="-1" strike="noStrike">
              <a:solidFill>
                <a:srgbClr val="000000"/>
              </a:solidFill>
              <a:latin typeface="Constanti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1061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ut in the right word:</a:t>
            </a:r>
            <a:endParaRPr b="0" lang="en-US" sz="2800" spc="-1" strike="noStrike">
              <a:solidFill>
                <a:srgbClr val="04617b"/>
              </a:solidFill>
              <a:latin typeface="Calibri"/>
            </a:endParaRPr>
          </a:p>
        </p:txBody>
      </p:sp>
      <p:sp>
        <p:nvSpPr>
          <p:cNvPr id="216" name="PlaceHolder 2"/>
          <p:cNvSpPr>
            <a:spLocks noGrp="1"/>
          </p:cNvSpPr>
          <p:nvPr>
            <p:ph/>
          </p:nvPr>
        </p:nvSpPr>
        <p:spPr>
          <a:xfrm>
            <a:off x="900000" y="2492280"/>
            <a:ext cx="7329600" cy="432144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river of the bus was ________injured. (serious/seriousl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n’t go along this path. It doesn’t look________. (safe/safel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 fell and cut himself__________. (bad/badl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re was a _________ change in her behavior. (sudden/suddenl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at young man behaves very__________. (selfish/selfishly)</a:t>
            </a:r>
            <a:endParaRPr b="0" lang="en-US" sz="2400" spc="-1" strike="noStrike">
              <a:solidFill>
                <a:srgbClr val="000000"/>
              </a:solidFill>
              <a:latin typeface="Constant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ut in the right word:</a:t>
            </a:r>
            <a:endParaRPr b="0" lang="en-US" sz="28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Does she always feel __________before examinations? (nervous/nervousl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 speaks English __________ although he has learned it only for two years. (fluent/fluently)</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were __________ upset about failing this exam. (terrible/terribly).</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1061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ranslate into English:</a:t>
            </a:r>
            <a:endParaRPr b="0" lang="en-US" sz="2800" spc="-1" strike="noStrike">
              <a:solidFill>
                <a:srgbClr val="04617b"/>
              </a:solidFill>
              <a:latin typeface="Calibri"/>
            </a:endParaRPr>
          </a:p>
        </p:txBody>
      </p:sp>
      <p:sp>
        <p:nvSpPr>
          <p:cNvPr id="220" name="PlaceHolder 2"/>
          <p:cNvSpPr>
            <a:spLocks noGrp="1"/>
          </p:cNvSpPr>
          <p:nvPr>
            <p:ph/>
          </p:nvPr>
        </p:nvSpPr>
        <p:spPr>
          <a:xfrm>
            <a:off x="468000" y="2276280"/>
            <a:ext cx="7761240" cy="45370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nstantia"/>
              </a:rPr>
              <a:t>Превести краћи текст о витаминима на енглески језик.</a:t>
            </a:r>
            <a:endParaRPr b="0" lang="en-US" sz="2400" spc="-1" strike="noStrike">
              <a:solidFill>
                <a:srgbClr val="000000"/>
              </a:solidFill>
              <a:latin typeface="Constant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0" y="1061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Vitamins and Minerals</a:t>
            </a:r>
            <a:endParaRPr b="0" lang="en-US" sz="2800" spc="-1" strike="noStrike">
              <a:solidFill>
                <a:srgbClr val="04617b"/>
              </a:solidFill>
              <a:latin typeface="Calibri"/>
            </a:endParaRPr>
          </a:p>
        </p:txBody>
      </p:sp>
      <p:sp>
        <p:nvSpPr>
          <p:cNvPr id="201" name="PlaceHolder 2"/>
          <p:cNvSpPr>
            <a:spLocks noGrp="1"/>
          </p:cNvSpPr>
          <p:nvPr>
            <p:ph/>
          </p:nvPr>
        </p:nvSpPr>
        <p:spPr>
          <a:xfrm>
            <a:off x="395280" y="2320560"/>
            <a:ext cx="8532720" cy="4537080"/>
          </a:xfrm>
          <a:prstGeom prst="rect">
            <a:avLst/>
          </a:prstGeom>
          <a:noFill/>
          <a:ln w="0">
            <a:noFill/>
          </a:ln>
        </p:spPr>
        <p:txBody>
          <a:bodyPr anchor="t">
            <a:normAutofit fontScale="96000"/>
          </a:bodyPr>
          <a:p>
            <a:pPr marL="2617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Vitamins and minerals are nutrients that are essential to many reactions taking place daily in the body, such as tissue repair or energy production. These nutrients are found either occurring naturally in food or synthetically made and added to foods and to dietary supplements. They are also referred to as micronutrients - nutrients that are required by the body in small amounts. Although vitamins and minerals  don’t provide energy directly, they do play essential roles in chemical reactions that occur within the body for normal functioning and assist with energy production from macronutrients – nutrients that are needed in large amounts – such as carbohydrates, fat or protein. The word vitamin is derived from a combination of words – vital amine – and was conceived by Polish chemist Casimir Funk in 1912. Funk isolated vitamin B1, or thiamine, from rice........................The rest of the lesson can be found in the textbook “English in Dentistry” by Natasa Milosavljevic</a:t>
            </a:r>
            <a:endParaRPr b="0" lang="en-US" sz="2000" spc="-1" strike="noStrike">
              <a:solidFill>
                <a:srgbClr val="000000"/>
              </a:solidFill>
              <a:latin typeface="Constanti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1061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ords to remember:</a:t>
            </a:r>
            <a:endParaRPr b="0" lang="en-US" sz="2800" spc="-1" strike="noStrike">
              <a:solidFill>
                <a:srgbClr val="04617b"/>
              </a:solidFill>
              <a:latin typeface="Calibri"/>
            </a:endParaRPr>
          </a:p>
        </p:txBody>
      </p:sp>
      <p:sp>
        <p:nvSpPr>
          <p:cNvPr id="203" name="PlaceHolder 2"/>
          <p:cNvSpPr>
            <a:spLocks noGrp="1"/>
          </p:cNvSpPr>
          <p:nvPr>
            <p:ph/>
          </p:nvPr>
        </p:nvSpPr>
        <p:spPr>
          <a:xfrm>
            <a:off x="468000" y="2349000"/>
            <a:ext cx="7761240" cy="4464360"/>
          </a:xfrm>
          <a:prstGeom prst="rect">
            <a:avLst/>
          </a:prstGeom>
          <a:noFill/>
          <a:ln w="0">
            <a:noFill/>
          </a:ln>
        </p:spPr>
        <p:txBody>
          <a:bodyPr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tinol</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lciferol</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copherol</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nadione</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iacin</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ntothenol</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yridoxine</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lic Acid</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balamin</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amine</a:t>
            </a: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ibovlavin</a:t>
            </a:r>
            <a:endParaRPr b="0" lang="en-US" sz="2400" spc="-1" strike="noStrike">
              <a:solidFill>
                <a:srgbClr val="000000"/>
              </a:solidFill>
              <a:latin typeface="Constantia"/>
            </a:endParaRPr>
          </a:p>
          <a:p>
            <a:pPr marL="270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0" y="1061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Words to remember:</a:t>
            </a:r>
            <a:endParaRPr b="0" lang="en-US" sz="2800" spc="-1" strike="noStrike">
              <a:solidFill>
                <a:srgbClr val="04617b"/>
              </a:solidFill>
              <a:latin typeface="Calibri"/>
            </a:endParaRPr>
          </a:p>
        </p:txBody>
      </p:sp>
      <p:sp>
        <p:nvSpPr>
          <p:cNvPr id="205" name="PlaceHolder 2"/>
          <p:cNvSpPr>
            <a:spLocks noGrp="1"/>
          </p:cNvSpPr>
          <p:nvPr>
            <p:ph/>
          </p:nvPr>
        </p:nvSpPr>
        <p:spPr>
          <a:xfrm>
            <a:off x="684000" y="2349000"/>
            <a:ext cx="7545240" cy="446436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ngamic acid</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ioti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olin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osito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ron</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anadium</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odin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lybdenum</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106164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Talking points:</a:t>
            </a:r>
            <a:endParaRPr b="0" lang="en-US" sz="2800" spc="-1" strike="noStrike">
              <a:solidFill>
                <a:srgbClr val="04617b"/>
              </a:solidFill>
              <a:latin typeface="Calibri"/>
            </a:endParaRPr>
          </a:p>
        </p:txBody>
      </p:sp>
      <p:sp>
        <p:nvSpPr>
          <p:cNvPr id="207" name="PlaceHolder 2"/>
          <p:cNvSpPr>
            <a:spLocks noGrp="1"/>
          </p:cNvSpPr>
          <p:nvPr>
            <p:ph/>
          </p:nvPr>
        </p:nvSpPr>
        <p:spPr>
          <a:xfrm>
            <a:off x="468000" y="2349000"/>
            <a:ext cx="7761240" cy="4464360"/>
          </a:xfrm>
          <a:prstGeom prst="rect">
            <a:avLst/>
          </a:prstGeom>
          <a:noFill/>
          <a:ln w="0">
            <a:noFill/>
          </a:ln>
        </p:spPr>
        <p:txBody>
          <a:bodyPr anchor="t">
            <a:normAutofit/>
          </a:bodyPr>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000" spc="-1" strike="noStrike">
                <a:solidFill>
                  <a:srgbClr val="000000"/>
                </a:solidFill>
                <a:latin typeface="Constantia"/>
              </a:rPr>
              <a:t>CLASSIFICATION OF VITAMINS</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000" spc="-1" strike="noStrike">
                <a:solidFill>
                  <a:srgbClr val="000000"/>
                </a:solidFill>
                <a:latin typeface="Constantia"/>
              </a:rPr>
              <a:t>THE ROLE OF VITAMINS</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000" spc="-1" strike="noStrike">
                <a:solidFill>
                  <a:srgbClr val="000000"/>
                </a:solidFill>
                <a:latin typeface="Constantia"/>
              </a:rPr>
              <a:t>VITAMIN B COMPLEX</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000" spc="-1" strike="noStrike">
                <a:solidFill>
                  <a:srgbClr val="000000"/>
                </a:solidFill>
                <a:latin typeface="Constantia"/>
              </a:rPr>
              <a:t>THE IMPORTANCE OF VITAMIN C</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VITAMINS A, D, K AND E</a:t>
            </a:r>
            <a:endParaRPr b="0" lang="en-US" sz="2000" spc="-1" strike="noStrike">
              <a:solidFill>
                <a:srgbClr val="000000"/>
              </a:solidFill>
              <a:latin typeface="Constantia"/>
            </a:endParaRPr>
          </a:p>
          <a:p>
            <a:pPr marL="272880" indent="-272880">
              <a:spcBef>
                <a:spcPts val="499"/>
              </a:spcBef>
              <a:buClr>
                <a:srgbClr val="0bd0d9"/>
              </a:buClr>
              <a:buSzPct val="9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IMPORTANCE OF MINERALS</a:t>
            </a:r>
            <a:endParaRPr b="0" lang="en-US" sz="2000" spc="-1" strike="noStrike">
              <a:solidFill>
                <a:srgbClr val="000000"/>
              </a:solidFill>
              <a:latin typeface="Constantia"/>
            </a:endParaRPr>
          </a:p>
          <a:p>
            <a:pPr marL="27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1484280"/>
            <a:ext cx="8137800" cy="4348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sert the correct word in the following sentences from the list below:</a:t>
            </a:r>
            <a:br>
              <a:rPr sz="2000"/>
            </a:br>
            <a:r>
              <a:rPr b="0" lang="en-US" sz="2000" spc="-1" strike="noStrike">
                <a:solidFill>
                  <a:srgbClr val="04617b"/>
                </a:solidFill>
                <a:latin typeface="Calibri"/>
              </a:rPr>
              <a:t>dietary, formation, catalysts, disrupt, deficiency, fat-soluble, scurvy, alfalfa</a:t>
            </a:r>
            <a:endParaRPr b="0" lang="en-US" sz="2000" spc="-1" strike="noStrike">
              <a:solidFill>
                <a:srgbClr val="04617b"/>
              </a:solidFill>
              <a:latin typeface="Calibri"/>
            </a:endParaRPr>
          </a:p>
        </p:txBody>
      </p:sp>
      <p:sp>
        <p:nvSpPr>
          <p:cNvPr id="209" name=""/>
          <p:cNvSpPr txBox="1"/>
          <p:nvPr/>
        </p:nvSpPr>
        <p:spPr>
          <a:xfrm>
            <a:off x="539280" y="2276640"/>
            <a:ext cx="8147160" cy="404784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cronutrients are___________components, utilized in the reactions regulated by vitamins.</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classic manifestation of severe ascorbic acid deficiency is called___________.</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richest source of vitamin K are fish liver and ________.</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tamins assist in the ___________ of hormones, blood cells, nervous-system chemicals and genetic material.</a:t>
            </a:r>
            <a:endParaRPr b="0" lang="en-US" sz="2400" spc="-1" strike="noStrike">
              <a:solidFill>
                <a:srgbClr val="000000"/>
              </a:solidFill>
              <a:latin typeface="Constantia"/>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11280" y="2276280"/>
            <a:ext cx="7618320" cy="45370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tamins A, D, K and E are___________ vitamins generally consumed with fat-containing food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tamins generally act as___________ combining with proteins to create metabolically active enzymes.</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sence of a vitamin may __________ the metabolic balance within a cell.</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tamin D __________ may cause a disease called rickets. </a:t>
            </a:r>
            <a:endParaRPr b="0" lang="en-US" sz="2400" spc="-1" strike="noStrike">
              <a:solidFill>
                <a:srgbClr val="000000"/>
              </a:solidFill>
              <a:latin typeface="Constanti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1268280"/>
            <a:ext cx="7545240" cy="93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Make nouns ending in “tion” from the following verbs and use each of them in a sentence:</a:t>
            </a:r>
            <a:endParaRPr b="0" lang="en-US" sz="2800" spc="-1" strike="noStrike">
              <a:solidFill>
                <a:srgbClr val="04617b"/>
              </a:solidFill>
              <a:latin typeface="Calibri"/>
            </a:endParaRPr>
          </a:p>
        </p:txBody>
      </p:sp>
      <p:sp>
        <p:nvSpPr>
          <p:cNvPr id="212" name="PlaceHolder 2"/>
          <p:cNvSpPr>
            <a:spLocks noGrp="1"/>
          </p:cNvSpPr>
          <p:nvPr>
            <p:ph/>
          </p:nvPr>
        </p:nvSpPr>
        <p:spPr>
          <a:xfrm>
            <a:off x="684000" y="2276280"/>
            <a:ext cx="7545240" cy="45370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gul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tiliz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srup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tec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sorb</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lat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um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duce</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bine</a:t>
            </a:r>
            <a:endParaRPr b="0" lang="en-US" sz="2400" spc="-1" strike="noStrike">
              <a:solidFill>
                <a:srgbClr val="000000"/>
              </a:solidFill>
              <a:latin typeface="Constantia"/>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Rewrite the following sentences in the Passive Voice:</a:t>
            </a:r>
            <a:endParaRPr b="0" lang="en-US" sz="28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are building three new pharmacies in this town now.</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tudents could use these scientific methods in their research.</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y scientists claim that smoking causes lung cance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y allowed him enough money to perform his experimen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doctor will examine this patient immediately.</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ose experts have recognized his work as one of the bes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4-02-08T20:29:59Z</dcterms:modified>
  <cp:revision>19</cp:revision>
  <dc:subject/>
  <dc:title>Slide 1</dc:title>
</cp:coreProperties>
</file>